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0559-51D0-4D94-A6BB-7FBFA2FE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A733E-18B1-4D8D-AFB8-B796130C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CC12-3691-4F5D-A9FE-8FA0A93E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785D-6D96-45E8-B5FE-CDF951A7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986B-0E6D-44DC-908A-830AEE7E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7EF0-0D03-4A1E-8D9E-7AAE352B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D1D0-AC55-465A-B1C6-F786712F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E2AE-2562-4A10-A443-FBD10180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7E04-9530-439E-A55D-27822820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AC81-326D-4D58-885C-82F63980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CB36-1194-4C3C-85FF-78BBE05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38D5-3A9F-43E0-8B05-89EE4223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E9C3-C34D-48C7-B382-934BCF35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272F-2AE4-4C5E-8E95-43697853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3E64-9D1F-4C2E-B288-80432F46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7B14-E4B8-47BB-8A64-92A3D006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FFF8-5B65-4B12-887D-F2C01F23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BBB6B-9F01-4987-86CA-F5E6E978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67A0-C42B-4C3D-9F63-15CCDE63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3D72-0DDD-4520-81C2-C13FB53D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56F6-A056-4AD1-B6E3-BE210539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A4B0-1B14-42F5-BE07-05E78939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54B0B-5E0C-4C45-8B66-D653A306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27E7-F0EE-4209-B9F7-73299575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5DE8-D0EF-4AA2-A7D5-9F7CD5D16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55E4-E23A-48E7-95A8-E99CF1E2F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Playfai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 Playfair Cip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87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characteristics of Playfair ciphertext that can be useful in identifying it as a Playfai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a substitution system, the rare consonants j, k, q, x, and z will appear in higher frequencies than plaintext and digraphs containing these consonants will appear more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n even number of letters in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iphertext is broken up into digrams, doubled letters such as SS, EE, MM, . . . will not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87D6-E35B-4150-BCA9-084907C30C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4360" y="209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680" y="1346040"/>
            <a:ext cx="7456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help in the process of identifying a Playfair (or other polygraphic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5240" y="2200320"/>
            <a:ext cx="1193760" cy="46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67000" y="2838600"/>
            <a:ext cx="574200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71560" y="3067200"/>
            <a:ext cx="1095480" cy="657000"/>
          </a:xfrm>
          <a:prstGeom prst="wedgeRoundRectCallout">
            <a:avLst>
              <a:gd name="adj1" fmla="val -42319"/>
              <a:gd name="adj2" fmla="val 67634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9761-265A-4CC8-820F-5D2D72615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7T03:22:54Z</dcterms:modified>
  <cp:revision>65</cp:revision>
  <dc:subject/>
  <dc:title>CAP Cryptographic Analysis Program</dc:title>
</cp:coreProperties>
</file>